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DRIVEB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133-CFA1-4C78-A83B-9478A10C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ACA-EE2C-4648-AD1F-4FBAC2A2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C87-D168-4DEF-B8AA-0A114CBE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9CD-19F7-4FBA-A221-B6B21110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AEE0-1E46-4856-B485-AC01E318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C1E6-B344-4A56-972A-3B24BB62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3399-5975-4602-87F8-38763B6E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44CD-3C1B-4170-B381-81B23866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0417-B799-447B-8C0B-A5A10F6A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3337-4701-4606-80E4-90044678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544D-FA27-4B09-8959-6E8DD078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278-D97E-4CD2-8C4F-82EC41C7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E372-C7C9-430A-BD8F-C30B8F0D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7449-E0E5-41DD-A185-19BD9CA3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4018-C036-4CE1-A725-BB04A8F7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733C-1B53-4A0B-B31C-CC16D0B9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58A6-A5EB-4BB9-96DA-66872DE4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560-8516-4790-B243-5AFD4DD8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EDF-FF68-4652-9D2E-3CF1755A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7C9-7669-4F8E-9992-A5A39CE6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796-AFC0-4567-9F5E-5DC647EA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FE0-A6E9-4403-BFE2-5A563CB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E51-73B2-4BDA-813D-28491F85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FDA-A57B-4C73-A0CA-29064995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F284-3B84-4AE2-9C7E-A60CAAE186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AB09-3372-4511-B061-DB5F9BF1A1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SPIRING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DUSTRIES BE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ild it and they will com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from whe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haring in the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lemm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39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Motors Corpo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Motors Dealershi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SU Institute of Technology (GM ASE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spective Student/Inter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eneral Motors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c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$$$$$$$$$$$$$$$$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duce a quality product @ a reasonable co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ppy Custom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peat Custom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63868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4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"/>
                </p:tgtEl>
              </p:cMediaNode>
            </p:audio>
            <p:seq>
              <p:cTn id="7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n of Action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rowing Your Own Technicia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cate Students Prospects, Tell Them of the Opportunities Availab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Vocational School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utomotive Progra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utomotive Competitions (VICA, NADA, etc.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igh School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unselo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utomotive Program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Customer Bas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mployees and Friend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evelop a Joint effort with OSU Institute of Technology to recruit quality individual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come Actively involved with local Vocational Technical &amp; High School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Get to know your local instructo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0f00"/>
                </a:solidFill>
                <a:latin typeface="Times New Roman"/>
              </a:rPr>
              <a:t>Visit school to recruit for ASEP inter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ork closely with local school Automotive advisory boar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Utilize or develop a local AYES Progra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07" dur="20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6T20:43:24Z</dcterms:created>
  <dc:creator>Automotive Technology</dc:creator>
  <dc:description/>
  <dc:language>en-US</dc:language>
  <cp:lastModifiedBy>OSU Institute of Technology</cp:lastModifiedBy>
  <cp:lastPrinted>1999-12-06T17:15:04Z</cp:lastPrinted>
  <dcterms:modified xsi:type="dcterms:W3CDTF">2013-04-12T12:25:16Z</dcterms:modified>
  <cp:revision>51</cp:revision>
  <dc:subject/>
  <dc:title>INSPIRING INDUSTRIES BEST</dc:title>
</cp:coreProperties>
</file>